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560-DD34-43CA-B52B-3D43FBAD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0D1-308E-41AD-803F-F6A1BAA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A2B-80DD-48D6-9A0F-B4E1E92B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5A3-2126-4055-A171-36786D8F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301-2E12-4864-8E43-7BCEEF0B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BD6-67AE-497A-9BCE-B62A3CAE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FD7-5ACA-4430-9810-701B2D13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E1D-7744-4839-85C0-4758AFE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E39-74EC-44EC-9884-38363F4F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1D2-6FE1-4A8F-8E76-EEFEB1A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DE2-281B-49EA-AE0C-E1E5BF7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FBE-91C2-4CE6-BC54-4ABDE0E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D22-358F-4DDA-BE13-0C3EBA50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282" r="0" b="4493"/>
          <a:stretch/>
        </p:blipFill>
        <p:spPr>
          <a:xfrm>
            <a:off x="0" y="684360"/>
            <a:ext cx="6858000" cy="4136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9257" r="0" b="9692"/>
          <a:stretch/>
        </p:blipFill>
        <p:spPr>
          <a:xfrm>
            <a:off x="0" y="5254560"/>
            <a:ext cx="6858000" cy="388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870" t="0" r="49984" b="90924"/>
          <a:stretch/>
        </p:blipFill>
        <p:spPr>
          <a:xfrm>
            <a:off x="189000" y="0"/>
            <a:ext cx="4037040" cy="581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221000" y="250920"/>
            <a:ext cx="234972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創英角ｺﾞｼｯｸUB"/>
              </a:rPr>
              <a:t>＊７月中旬対応予定！</a:t>
            </a:r>
            <a:endParaRPr b="0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創英角ｺﾞｼｯｸUB"/>
              <a:ea typeface="HG創英角ｺﾞｼｯｸUB"/>
            </a:endParaRPr>
          </a:p>
        </p:txBody>
      </p:sp>
      <p:sp>
        <p:nvSpPr>
          <p:cNvPr id="46" name=""/>
          <p:cNvSpPr/>
          <p:nvPr/>
        </p:nvSpPr>
        <p:spPr>
          <a:xfrm>
            <a:off x="6021360" y="867564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71B-E3BB-41FC-9DF1-24444BC246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6297" r="0" b="6913"/>
          <a:stretch/>
        </p:blipFill>
        <p:spPr>
          <a:xfrm>
            <a:off x="0" y="108000"/>
            <a:ext cx="685800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15949" r="0" b="8901"/>
          <a:stretch/>
        </p:blipFill>
        <p:spPr>
          <a:xfrm>
            <a:off x="0" y="5292720"/>
            <a:ext cx="6858000" cy="3606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9000" y="4859280"/>
            <a:ext cx="6408720" cy="289080"/>
          </a:xfrm>
          <a:prstGeom prst="rect">
            <a:avLst/>
          </a:prstGeom>
          <a:solidFill>
            <a:srgbClr val="da0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ジャグ連演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9000" y="468360"/>
            <a:ext cx="6443640" cy="288720"/>
          </a:xfrm>
          <a:prstGeom prst="rect">
            <a:avLst/>
          </a:prstGeom>
          <a:solidFill>
            <a:srgbClr val="da0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事前告知演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867564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520-3113-4054-ACEF-2B5DE32CE8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2:50:27Z</dcterms:created>
  <dc:creator>VGNG2-1204659</dc:creator>
  <dc:description/>
  <dc:language>en-US</dc:language>
  <cp:lastModifiedBy>VGNG2-1204659</cp:lastModifiedBy>
  <dcterms:modified xsi:type="dcterms:W3CDTF">2010-06-29T17:23:17Z</dcterms:modified>
  <cp:revision>2</cp:revision>
  <dc:subject/>
  <dc:title>スライド 1</dc:title>
</cp:coreProperties>
</file>